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A04E-8276-4BCA-B173-B9449F4637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Healt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ing and the lu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 and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ng inhaled and exhaled 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 big differences between inhaled and exhaled air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ould you test for the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is another difference…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vapou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inhaled and exhaled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ig differences between inhaled and exhaled ai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you test for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other difference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vap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s take a closer look (av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take a closer look (a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kup of as wmv fi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of as wmv f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m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 1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a partn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ner A – explain the process of breathing in and what gase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ner B – explain the process of breathing out and what gase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prepared to share your answers with the cl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part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A – explain the process of breathing in and what gas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B – explain the process of breathing out and what gas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prepared to share your answers with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en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s &amp; 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&amp;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 exchange happens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have 2 lungs, situated in your upper thorax / ch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exchange happens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2 lungs, situated in your upper thorax / c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w do we breath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uth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ndpipe/trachea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onchi 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onchioles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veoli 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breath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pipe/trachea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chi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chioles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ha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When we breathe in we inha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hen we breathe in we inh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a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When we breathe out we exha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hen we breathe out we exh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changing g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ing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lveo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utside of the alveoli is covered with tiny blood vesse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side of the alveoli is covered with tiny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lveo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of these alveoli is called the ALVEOL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v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se alveoli is called the ALVEO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F5A1-0BE9-4E81-9C67-36B26FD2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E61-5E54-45B1-991E-A601D500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1B2-D6F3-4E5F-9FCB-D6E7BFE1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BC7-9EAA-4EC6-A8C7-FFE06E15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825C-8FB6-4836-9436-3AB83427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8FC1-390A-4680-ACDF-F5AFC879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07CC-2BB0-4F31-8BB8-F8CD6DB3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9DF0-6872-40FA-962F-E5700E86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03EC-25A4-4D83-9236-088B0C2F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38FA-F521-4F8B-98EB-4FB104AA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D9A6-AEA5-451F-B0ED-67FA6CEB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A6B-7C0A-48B8-A3AE-6AC1588F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FFE2-0DF4-411F-BBD2-82CEB866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9FA3-25A2-404B-A066-64A33FBD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21A1-8B08-4BE2-BB85-D1BD2D49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0C2D-23EF-41C0-9B09-983FAE82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DAF9-2453-4C66-8DCD-450258D1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FF0-E698-46B4-B041-F16C1B1A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E7E-782B-4082-84A6-07D35385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AB4-FF08-4469-A021-3B1CA4B7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6485-00CA-4C0C-AB30-C7184563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BE40-2154-4832-B8CA-DF2DFA3B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07C-8231-40A6-AB40-F9A397FE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B4E-2D2B-4935-A040-E34628AD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4BB1-8608-4B61-89E1-57C239B9C8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2CB5-D8A5-4292-9289-BF6E39700FF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Being Health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eathing and the lu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0" y="0"/>
            <a:ext cx="647712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aring inhaled and exhaled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0" y="7477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are the big differences between inhaled and exhaled ai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could you test for the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57200" y="5715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another difference…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800600" y="5700600"/>
            <a:ext cx="29718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er vapo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6"/>
          <p:cNvGrpSpPr/>
          <p:nvPr/>
        </p:nvGrpSpPr>
        <p:grpSpPr>
          <a:xfrm>
            <a:off x="385560" y="1905120"/>
            <a:ext cx="3500640" cy="3690360"/>
            <a:chOff x="385560" y="1905120"/>
            <a:chExt cx="3500640" cy="3690360"/>
          </a:xfrm>
        </p:grpSpPr>
        <p:sp>
          <p:nvSpPr>
            <p:cNvPr id="267" name="Rectangle 7"/>
            <p:cNvSpPr/>
            <p:nvPr/>
          </p:nvSpPr>
          <p:spPr>
            <a:xfrm>
              <a:off x="465480" y="1905120"/>
              <a:ext cx="1636200" cy="45972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Inhaled Ai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8"/>
            <p:cNvSpPr/>
            <p:nvPr/>
          </p:nvSpPr>
          <p:spPr>
            <a:xfrm>
              <a:off x="385560" y="4038480"/>
              <a:ext cx="32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Nitrogen (78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xygen (20.71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bon Dioxide (0.1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9"/>
            <p:cNvSpPr/>
            <p:nvPr/>
          </p:nvSpPr>
          <p:spPr>
            <a:xfrm>
              <a:off x="266688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0"/>
            <p:cNvSpPr/>
            <p:nvPr/>
          </p:nvSpPr>
          <p:spPr>
            <a:xfrm>
              <a:off x="297180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1"/>
            <p:cNvSpPr/>
            <p:nvPr/>
          </p:nvSpPr>
          <p:spPr>
            <a:xfrm>
              <a:off x="36576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2" name="Picture 12" descr="pie chart 1"/>
            <p:cNvPicPr/>
            <p:nvPr/>
          </p:nvPicPr>
          <p:blipFill>
            <a:blip r:embed="rId1"/>
            <a:stretch/>
          </p:blipFill>
          <p:spPr>
            <a:xfrm>
              <a:off x="457200" y="2438280"/>
              <a:ext cx="28954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Rectangle 13"/>
            <p:cNvSpPr/>
            <p:nvPr/>
          </p:nvSpPr>
          <p:spPr>
            <a:xfrm>
              <a:off x="1371600" y="53341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Group 14"/>
          <p:cNvGrpSpPr/>
          <p:nvPr/>
        </p:nvGrpSpPr>
        <p:grpSpPr>
          <a:xfrm>
            <a:off x="4805640" y="1905120"/>
            <a:ext cx="3195360" cy="3690360"/>
            <a:chOff x="4805640" y="1905120"/>
            <a:chExt cx="3195360" cy="3690360"/>
          </a:xfrm>
        </p:grpSpPr>
        <p:sp>
          <p:nvSpPr>
            <p:cNvPr id="275" name="Rectangle 15"/>
            <p:cNvSpPr/>
            <p:nvPr/>
          </p:nvSpPr>
          <p:spPr>
            <a:xfrm>
              <a:off x="4885560" y="1905120"/>
              <a:ext cx="1736640" cy="4597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Exhaled Ai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16"/>
            <p:cNvSpPr/>
            <p:nvPr/>
          </p:nvSpPr>
          <p:spPr>
            <a:xfrm>
              <a:off x="4805640" y="4038480"/>
              <a:ext cx="3007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Nitrogen (75.5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xygen (14.6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bon Dioxide (4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17"/>
            <p:cNvSpPr/>
            <p:nvPr/>
          </p:nvSpPr>
          <p:spPr>
            <a:xfrm>
              <a:off x="731520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18"/>
            <p:cNvSpPr/>
            <p:nvPr/>
          </p:nvSpPr>
          <p:spPr>
            <a:xfrm>
              <a:off x="731988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19"/>
            <p:cNvSpPr/>
            <p:nvPr/>
          </p:nvSpPr>
          <p:spPr>
            <a:xfrm>
              <a:off x="77724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0"/>
            <p:cNvSpPr/>
            <p:nvPr/>
          </p:nvSpPr>
          <p:spPr>
            <a:xfrm>
              <a:off x="5791320" y="53341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1" name="Picture 21" descr="pie chart 2"/>
            <p:cNvPicPr/>
            <p:nvPr/>
          </p:nvPicPr>
          <p:blipFill>
            <a:blip r:embed="rId2"/>
            <a:stretch/>
          </p:blipFill>
          <p:spPr>
            <a:xfrm>
              <a:off x="4876920" y="2438280"/>
              <a:ext cx="2895480" cy="158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Lets take a closer look (avi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respiratory systemmp4.AVI" descr=""/>
          <p:cNvPicPr/>
          <p:nvPr/>
        </p:nvPicPr>
        <p:blipFill>
          <a:blip r:embed="rId1"/>
          <a:stretch/>
        </p:blipFill>
        <p:spPr>
          <a:xfrm>
            <a:off x="1042920" y="1644480"/>
            <a:ext cx="6553440" cy="480564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Backup of as wmv fil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respiratory systemmp4.WMV" descr=""/>
          <p:cNvPicPr/>
          <p:nvPr/>
        </p:nvPicPr>
        <p:blipFill>
          <a:blip r:embed="rId1"/>
          <a:stretch/>
        </p:blipFill>
        <p:spPr>
          <a:xfrm>
            <a:off x="1332000" y="1442880"/>
            <a:ext cx="6264360" cy="501192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v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lungs and breathing.AVI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m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lungs and breathing.WMV" descr=""/>
          <p:cNvPicPr/>
          <p:nvPr/>
        </p:nvPicPr>
        <p:blipFill>
          <a:blip r:embed="rId1"/>
          <a:stretch/>
        </p:blipFill>
        <p:spPr>
          <a:xfrm>
            <a:off x="1116000" y="1324080"/>
            <a:ext cx="6840720" cy="513072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ask 1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a part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 A – explain the process of breathing in and what gases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 B – explain the process of breathing out and what gases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prepared to share your answers with the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ask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len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bjectives &amp; Outc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he Respiratory Sy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as exchange happens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have 2 lungs, situated in your upper thorax / ch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How do we breath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uth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ndpipe/trachea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nchi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nchioles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veoli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lungs5c"/>
          <p:cNvPicPr/>
          <p:nvPr/>
        </p:nvPicPr>
        <p:blipFill>
          <a:blip r:embed="rId1"/>
          <a:stretch/>
        </p:blipFill>
        <p:spPr>
          <a:xfrm>
            <a:off x="3924360" y="1341360"/>
            <a:ext cx="4776840" cy="529128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0" y="0"/>
            <a:ext cx="20574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  <a:ea typeface="Times New Roman"/>
              </a:rPr>
              <a:t>Inha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443320" y="380880"/>
            <a:ext cx="4464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  <a:ea typeface="Times New Roman"/>
              </a:rPr>
              <a:t>(When we breathe in we inh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ShockwaveFlash1"/>
          <p:cNvGraphicFramePr/>
          <p:nvPr/>
        </p:nvGraphicFramePr>
        <p:xfrm>
          <a:off x="838080" y="1066680"/>
          <a:ext cx="739008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066680"/>
                    <a:ext cx="7390080" cy="5486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266688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  <a:ea typeface="Times New Roman"/>
              </a:rPr>
              <a:t>Exha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2061000" y="609480"/>
            <a:ext cx="47376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  <a:ea typeface="Times New Roman"/>
              </a:rPr>
              <a:t>(When we breathe out we exh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ShockwaveFlash1"/>
          <p:cNvGraphicFramePr/>
          <p:nvPr/>
        </p:nvGraphicFramePr>
        <p:xfrm>
          <a:off x="914400" y="1143000"/>
          <a:ext cx="731520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143000"/>
                    <a:ext cx="7315200" cy="54100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Exchanging ga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5" descr="lungs"/>
          <p:cNvPicPr/>
          <p:nvPr/>
        </p:nvPicPr>
        <p:blipFill>
          <a:blip r:embed="rId1"/>
          <a:stretch/>
        </p:blipFill>
        <p:spPr>
          <a:xfrm>
            <a:off x="179280" y="1484280"/>
            <a:ext cx="4337280" cy="4608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3D_Model_Anat_Alveoli2_web"/>
          <p:cNvPicPr/>
          <p:nvPr/>
        </p:nvPicPr>
        <p:blipFill>
          <a:blip r:embed="rId2"/>
          <a:stretch/>
        </p:blipFill>
        <p:spPr>
          <a:xfrm>
            <a:off x="4500720" y="1484280"/>
            <a:ext cx="4464000" cy="46814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0" y="0"/>
            <a:ext cx="25909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The Alve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914400" y="580716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utside of the alveoli is covered with tiny blood vess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066680" y="77796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ShockwaveFlash1"/>
          <p:cNvGraphicFramePr/>
          <p:nvPr/>
        </p:nvGraphicFramePr>
        <p:xfrm>
          <a:off x="990720" y="1600200"/>
          <a:ext cx="716256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00200"/>
                    <a:ext cx="7162560" cy="40384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0" y="0"/>
            <a:ext cx="28195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The Alveo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808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of these alveoli is called the ALVEOL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380880" y="2362320"/>
            <a:ext cx="2438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ShockwaveFlash1"/>
          <p:cNvGraphicFramePr/>
          <p:nvPr/>
        </p:nvGraphicFramePr>
        <p:xfrm>
          <a:off x="2819520" y="1905120"/>
          <a:ext cx="571500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905120"/>
                    <a:ext cx="5715000" cy="4343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8:21:04Z</dcterms:created>
  <dc:creator>Tony Blakie</dc:creator>
  <dc:description/>
  <dc:language>en-US</dc:language>
  <cp:lastModifiedBy>LEGION2</cp:lastModifiedBy>
  <dcterms:modified xsi:type="dcterms:W3CDTF">2016-01-13T13:38:47Z</dcterms:modified>
  <cp:revision>8</cp:revision>
  <dc:subject/>
  <dc:title>Being Healthy- Breathing and the lungs</dc:title>
</cp:coreProperties>
</file>